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BF0C-F94D-450F-8F4D-EA7CF0E4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57F2-84CA-4FDA-99E8-CB971CD1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E740-75B5-42C4-89B6-9C3AEB1E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A2CC-63D1-464C-AE98-3AF1F384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B927-CC25-455A-ACE8-C5EDA3C4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7B9E-10F4-4DFA-A880-AEFFFC67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54D5-0A89-447F-BD47-C72DCD9B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B689-CCE3-4A91-8553-1CBBDF9F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EAAD-4BBC-41BA-A49C-C56CEF1A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0651-0DE8-4A02-9543-B27A2CE9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8FCC-6BDC-451C-B6FC-A076F363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A0DE-1692-4BDD-A155-E5906925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DE07-40F9-416D-90C0-9FD682380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73152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3000" y="6553080"/>
            <a:ext cx="7621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4124160"/>
            <a:ext cx="966960" cy="2962440"/>
          </a:xfrm>
          <a:custGeom>
            <a:avLst/>
            <a:gdLst/>
            <a:ahLst/>
            <a:rect l="l" t="t" r="r" b="b"/>
            <a:pathLst>
              <a:path w="609" h="1866">
                <a:moveTo>
                  <a:pt x="0" y="1866"/>
                </a:moveTo>
                <a:lnTo>
                  <a:pt x="609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3676680"/>
            <a:ext cx="125280" cy="438120"/>
          </a:xfrm>
          <a:custGeom>
            <a:avLst/>
            <a:gdLst/>
            <a:ahLst/>
            <a:rect l="l" t="t" r="r" b="b"/>
            <a:pathLst>
              <a:path w="79" h="276">
                <a:moveTo>
                  <a:pt x="0" y="276"/>
                </a:moveTo>
                <a:lnTo>
                  <a:pt x="79" y="0"/>
                </a:lnTo>
              </a:path>
            </a:pathLst>
          </a:custGeom>
          <a:noFill/>
          <a:ln w="6660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7315200"/>
            <a:ext cx="4647960" cy="642600"/>
          </a:xfrm>
          <a:prstGeom prst="rect">
            <a:avLst/>
          </a:prstGeom>
          <a:solidFill>
            <a:srgbClr val="ffffff">
              <a:alpha val="7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d Line Depicts Route In Class E Airspace To/From R-2515 with A Chase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9080" y="5124600"/>
            <a:ext cx="12600" cy="1212840"/>
          </a:xfrm>
          <a:custGeom>
            <a:avLst/>
            <a:gdLst/>
            <a:ahLst/>
            <a:rect l="l" t="t" r="r" b="b"/>
            <a:pathLst>
              <a:path w="8" h="764">
                <a:moveTo>
                  <a:pt x="8" y="76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8120" y="2362320"/>
            <a:ext cx="2719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-2508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5:16:40Z</dcterms:created>
  <dc:creator>HP Authorized Customer</dc:creator>
  <dc:description/>
  <dc:language>en-US</dc:language>
  <cp:lastModifiedBy>MillerTL</cp:lastModifiedBy>
  <dcterms:modified xsi:type="dcterms:W3CDTF">2008-04-24T15:20:00Z</dcterms:modified>
  <cp:revision>7</cp:revision>
  <dc:subject/>
  <dc:title>Slide 1</dc:title>
</cp:coreProperties>
</file>